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D39-9B29-4D49-9590-B2E1B85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C6B-169E-4B18-B0C3-413921B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FD6-4AD7-4DD3-8082-B58AE944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C84-2B8D-4813-B449-55208C11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798C-F724-46EC-B898-8D5C552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2C22-C24D-42D1-94E6-647110E2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7032-7055-4721-B295-C5C49132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CBC3-799E-49B4-BE2C-5DFBF318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CA88-77E3-481B-9FD9-47ADCE2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953D-3E0E-4583-94BF-65E2140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317B-35A1-498E-8B87-EB1A85D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54-0E77-4669-891C-311B77B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00E4-F8EE-4F26-A80B-73EC0AF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712-1156-4A21-BD1F-07684224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7608-344B-4D64-812D-256B89B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8E97-90F6-4431-831F-B18F968B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DF4-8412-451E-A080-BE3F1DE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5F3-7D68-4E1B-9FA3-3E46529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441-2F76-4866-9FAA-5DC0A2C6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4A0-A4DA-43ED-AC2A-58920DF3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0C1-A360-4029-847A-839EAC2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D2D-5AC7-461D-9A6C-690ABD9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538-18CB-4DE0-A605-F9A2C58A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BCA-6100-4957-A7C9-B4B463D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7056-2595-4E74-9BFE-8C282191E8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510E-E743-4B3C-8694-C313D560F2A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57200"/>
            <a:ext cx="7162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n nuestra sociedad existen relaciones desiguales entre hombres y muj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reencias como: “ los hombres son el sexo fuerte y las mujeres el sexo débil” refuerzan esta desigualdad y generan discri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istóricamente bajo estos mitos se han limitado las posibilidades de desarrollo para ambos y se han posibilitado forma de dominio, relaciones violentas y segregaciones en base a esta diferencia sex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333360"/>
            <a:ext cx="7561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lo anterior se refleja en el mundo del Trabajo y la microempresa Y afecta de manera diferente a H y M ME 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s mujeres “son de la casa” existe menor diferenciación de los espacios familiares y productivos, además muchas son jefas de ho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r separación de las labores domésticas y de crianza y las laborales+ agobio – produ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le o triple jornada de trabajo. Traspaso de las labores a otras mujeres de la familia generalmente las hijas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os hombres esto generalmente esta resuelto, pero por exigencias del rol de proveedores y bajos ingresos trabajan + por -  vida familiar - a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643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bos H y M cuentan con dificultades para el acceso a recursos, créditos, tecnología pero las M aún más por trabas legales y culturales y contar con menor ingr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de las M en rubros menos valorados creencia de que existen oficios para hombres y para muj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rcialización M menor conocimiento del mundo público, menor socialización en el mundo de los negocios economía domé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ificar estas relaciones es tarea de hombres y muj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o permite un mejor desarrollo personal y potenciar nuestras h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r relaciones más igualitarias en todos los espacio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mover y construir la equ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mover los Derechos personales y colec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er estas reflexiones identificar estas diferencias y modificarlas es un primer paso para incorporar la perspectiva de género en los negoc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685800"/>
            <a:ext cx="746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Frecuentemente se usan los conceptos sexo y género para referirse a hombres y mujeres y para diferenciar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conduc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activi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formas de ser de cada uno/a.</a:t>
            </a:r>
            <a:r>
              <a:rPr b="1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Sin embargo, SEXO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y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 GÉNERO son dos conceptos difer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75060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95436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" y="1141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304920"/>
            <a:ext cx="7543440" cy="6247800"/>
            <a:chOff x="304920" y="304920"/>
            <a:chExt cx="7543440" cy="6247800"/>
          </a:xfrm>
        </p:grpSpPr>
        <p:grpSp>
          <p:nvGrpSpPr>
            <p:cNvPr id="154" name=""/>
            <p:cNvGrpSpPr/>
            <p:nvPr/>
          </p:nvGrpSpPr>
          <p:grpSpPr>
            <a:xfrm>
              <a:off x="311040" y="313200"/>
              <a:ext cx="7529760" cy="6229800"/>
              <a:chOff x="311040" y="313200"/>
              <a:chExt cx="7529760" cy="62298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11040" y="313200"/>
                <a:ext cx="3652920" cy="985320"/>
                <a:chOff x="311040" y="313200"/>
                <a:chExt cx="3652920" cy="985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0080" y="313200"/>
                  <a:ext cx="353412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800" spc="-1" strike="noStrike">
                      <a:solidFill>
                        <a:srgbClr val="000000"/>
                      </a:solidFill>
                      <a:latin typeface="Tahoma"/>
                    </a:rPr>
                    <a:t>SEX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313200"/>
                  <a:ext cx="3652920" cy="98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964320" y="313200"/>
                <a:ext cx="3876480" cy="985320"/>
                <a:chOff x="3964320" y="313200"/>
                <a:chExt cx="3876480" cy="985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024080" y="313200"/>
                  <a:ext cx="375732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86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ahoma"/>
                    </a:rPr>
                    <a:t>GÉNER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64320" y="313200"/>
                  <a:ext cx="3876480" cy="98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11040" y="1298880"/>
                <a:ext cx="3652920" cy="5244120"/>
                <a:chOff x="311040" y="1298880"/>
                <a:chExt cx="3652920" cy="5244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70080" y="1298880"/>
                  <a:ext cx="3534120" cy="52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on características físicas y biológicas que nos distinguen como macho y  hembra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e relaciona con la reproducción de la especie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Determinan que un ser humano sea Mujer  u Hombre.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No varían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Son inmodificables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1040" y="1298880"/>
                  <a:ext cx="3652920" cy="52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964320" y="1298880"/>
                <a:ext cx="3876480" cy="5244120"/>
                <a:chOff x="3964320" y="1298880"/>
                <a:chExt cx="3876480" cy="5244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024080" y="1298880"/>
                  <a:ext cx="3757320" cy="52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Es una construcción cultural  de las diferencias a partir del sexo.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on roles y conductas  asignadas por la sociedad  a  cada uno de los sexos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Tahoma"/>
                    </a:rPr>
                    <a:t> 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Es lo que conocemos como lo masculino y lo femenino.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e aprenden a lo largo de la vida (socialización)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Varían de cultura en cultura. </a:t>
                  </a: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Pueden modificar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64320" y="1298880"/>
                  <a:ext cx="3876480" cy="52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304920" y="304920"/>
              <a:ext cx="7543440" cy="624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40" y="5167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954000" cy="134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077320" y="4038480"/>
            <a:ext cx="750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609480"/>
            <a:ext cx="739116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 las características y roles atribuidos a lo femenino y lo masculino surge la división entre mundo privado o mundo de la casa  y mundo público o mundo de la cal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mbién se conocen como esfera privada reproductiva y esfera pública productiv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33"/>
                </a:solidFill>
                <a:latin typeface="Tahoma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57200"/>
            <a:ext cx="7315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Hasta antes de la Revolución Industrial, en el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hogar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compartían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a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b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de crianza de los hijos y el trabajo productivo artes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on la invención de la máquina surge la industria y con ello se separan las funciones y actividade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que realizaban sus integrante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n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IVA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REPRODU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254320" cy="2133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2361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267080" y="1143000"/>
            <a:ext cx="365760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REPRO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HOGAR/C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MUND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PR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DESVALORAD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gratu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poco valoradas y sin 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reconocimient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Realizadas en ais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de los A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LO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  FEME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Lo propio de la muj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Tahoma"/>
              </a:rPr>
              <a:t>MUNDO DEL TRABAJO DOME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143000"/>
            <a:ext cx="39625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PRODUC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FABRICA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/CA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MUND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VALORADO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Remune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con status y re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   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Posibilitan la sociabilidad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de la 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L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ASCU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lo propio del hombr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Tahoma"/>
              </a:rPr>
              <a:t>MUNDO DEL TRABAJO PRODUC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219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867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NDOS DIVIDI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360" y="304920"/>
            <a:ext cx="72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Las Mujeres son de la casa, los Hombres son de la cal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228600"/>
            <a:ext cx="71625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 lo anterior lo aprendem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la famili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escuela, la iglesia y los medios de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esta forma, vamos aprendiendo lo que se espera socialmente de hombres y mujeres, lo que es propiamente femenino y lo que es mascul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í vamos construyendo nuestra identidad de gé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3546360"/>
            <a:ext cx="320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228600"/>
            <a:ext cx="7315200" cy="71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Yo por sobretodo, soy una buena mad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identidad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a respuesta a la pregun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¿Quién soy yo?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lo que yo soy o siento que soy como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todas las características pers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construcción de la identidad  juega un rol fundamental la autoestima, es decir</a:t>
            </a:r>
            <a:r>
              <a:rPr b="0" lang="es-ES" sz="2000" spc="-1" strike="noStrike">
                <a:solidFill>
                  <a:srgbClr val="0000ff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valor que me atribuyo a mi misma/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las mujeres han sido socializadas en la subestima, es decir,</a:t>
            </a:r>
            <a:r>
              <a:rPr b="0" lang="es-E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a valoración menor a lo debido, muchas veces no reconocen sus capa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hombres son educados en la competencia, para ser jefes y mandar, por lo tanto tienen que demostrar socialmente que son capaces para ello (masculin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ello a cada sexo o género se le atribuyen características y conductas, roles y cualidades  diferentes que impiden el desarrollo de todas las potencialidad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90720"/>
            <a:ext cx="2476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gres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der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ic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racción, pl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 para s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990720"/>
            <a:ext cx="2743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m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ulz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s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crifici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re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ne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 para o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23:06:13Z</dcterms:created>
  <dc:creator>TIERRA NUESTRA</dc:creator>
  <dc:description/>
  <dc:language>en-US</dc:language>
  <cp:lastModifiedBy>ELENA Y PABLO</cp:lastModifiedBy>
  <dcterms:modified xsi:type="dcterms:W3CDTF">2009-02-11T09:37:34Z</dcterms:modified>
  <cp:revision>13</cp:revision>
  <dc:subject/>
  <dc:title>Diapositiva 1</dc:title>
</cp:coreProperties>
</file>